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40D-5BEF-491C-895F-52AB45D5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9810-D01B-4E3C-B168-CFA9CAA3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8C3-38AA-4A0B-89B2-95B30BA5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6B86-712A-47CE-9AEC-715B46E0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830-1B6B-4ABC-8C02-FD08018C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E29-9E76-4A4C-BB1C-B6E1AC47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839D-BB4F-49F4-A2EF-F34828AF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871-44E4-44D2-8D84-1C1DB613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8FC-D762-4EC9-8073-A37BE7CC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058-80A1-4FFF-9B1B-9EE4A802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0A2-70BE-4FA4-B634-2FABB1DF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48A-8D9F-4752-A243-80D2E013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D2A2-5E26-47E4-80ED-BB53C270D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Double_bitted_felling_axe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es.wikipedia.org/wiki/Archivo:Axt_Handwerk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history101.net/espanol/Rome/index.htm,March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ccff">
              <a:alpha val="99000"/>
            </a:srgbClr>
          </a:solidFill>
          <a:ln cap="rnd" w="9360">
            <a:solidFill>
              <a:srgbClr val="99cc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quitectura y  Ingenieria  de Rom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ar y Gl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17462f">
                  <a:alpha val="26274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TUNELES ROMAN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3b3b">
                  <a:alpha val="14117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soldados Romanos construian tuneles para no tener que dar toda la vuelta a los camin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Túnel romano Montefurado. Quiroga."/>
          <p:cNvPicPr/>
          <p:nvPr/>
        </p:nvPicPr>
        <p:blipFill>
          <a:blip r:embed="rId1"/>
          <a:stretch/>
        </p:blipFill>
        <p:spPr>
          <a:xfrm>
            <a:off x="2666880" y="2819520"/>
            <a:ext cx="4343400" cy="2901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>
                  <a:alpha val="5215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Bañ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750075">
                  <a:alpha val="3215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os pueblos mas grandes, los baños tenian areas distin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roman Bath"/>
          <p:cNvPicPr/>
          <p:nvPr/>
        </p:nvPicPr>
        <p:blipFill>
          <a:blip r:embed="rId1"/>
          <a:stretch/>
        </p:blipFill>
        <p:spPr>
          <a:xfrm>
            <a:off x="1981080" y="2801880"/>
            <a:ext cx="4800600" cy="38275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PRESAS ROMAN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Romanos  construian sus propias pr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5562720" cy="3990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HERRAMIENTAS PARA TRABAJAR LA PIED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Si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Comp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3.Talad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4.Marti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5.Met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6.Escop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7.Escul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8.P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HERRAMIENTAS PARA TRABAJAR LA PIED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1.Hac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2.Hac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3.Cu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4.Barr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5.Si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6.Sepi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7.Tena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8.M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2133720"/>
            <a:ext cx="2133720" cy="1523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4114800"/>
            <a:ext cx="293364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ymer,Eric.  ‘Romanos antiguos’ [Online] Availabl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history101.net/espanol/Rome/index.htm,M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9,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p,Peter.The Romans,New York: Scholastic,199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55000" y="41688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genieria Rom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s Romanos construian muchas cosas como las sigi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ca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cami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bar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mino  Echo por  Ingeniero Roman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 camino es por donde pasaban  los rom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Seccion de la calzada"/>
          <p:cNvPicPr/>
          <p:nvPr/>
        </p:nvPicPr>
        <p:blipFill>
          <a:blip r:embed="rId1"/>
          <a:stretch/>
        </p:blipFill>
        <p:spPr>
          <a:xfrm>
            <a:off x="1447920" y="3505320"/>
            <a:ext cx="5715000" cy="1962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cc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AS DE RIC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bbe0e3">
                  <a:alpha val="94117"/>
                </a:srgbClr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lo los ricos podian tener casas como la sigu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Foto"/>
          <p:cNvPicPr/>
          <p:nvPr/>
        </p:nvPicPr>
        <p:blipFill>
          <a:blip r:embed="rId1"/>
          <a:stretch/>
        </p:blipFill>
        <p:spPr>
          <a:xfrm>
            <a:off x="2514600" y="3581280"/>
            <a:ext cx="380988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6984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SOCIEDAD ROM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7632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osiedad Romana se dividia en 3 grup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Los patrisi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Los equ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Los plebey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PATRISI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c00"/>
          </a:solidFill>
          <a:ln cap="rnd" w="5724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an formadas por familias viegas y no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Patricios y plebeyos"/>
          <p:cNvPicPr/>
          <p:nvPr/>
        </p:nvPicPr>
        <p:blipFill>
          <a:blip r:embed="rId1"/>
          <a:stretch/>
        </p:blipFill>
        <p:spPr>
          <a:xfrm>
            <a:off x="1371600" y="3352680"/>
            <a:ext cx="6553080" cy="3108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>
                  <a:alpha val="60392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EQUIT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9ccff">
                  <a:alpha val="66274"/>
                </a:srgbClr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equites eran formados por los hombres mas caballeros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46280" cy="1828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ccff">
                  <a:alpha val="28235"/>
                </a:srgbClr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PLEBEY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>
                  <a:alpha val="44313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lebeyos eran la cran masa de la ciu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4876560" cy="3483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>
                  <a:alpha val="46274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ARQUITECTURA ROM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soldados hacian los caminos de pied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s soldados no les gustaba  hacer  los caminos de pied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soldados en sus  tiempos libres cortaban las piedras para los cami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288108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7:04:05Z</dcterms:created>
  <dc:creator>School District U46</dc:creator>
  <dc:description/>
  <dc:language>en-US</dc:language>
  <cp:lastModifiedBy>School District U46</cp:lastModifiedBy>
  <dcterms:modified xsi:type="dcterms:W3CDTF">2009-03-18T15:13:05Z</dcterms:modified>
  <cp:revision>27</cp:revision>
  <dc:subject/>
  <dc:title>Arquitectura y  Ingenieria  de Roma.</dc:title>
</cp:coreProperties>
</file>